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EA4-9860-475D-8F50-7D3AE705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1E3-F3CC-4C93-83A3-1E02B8D4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1FC-36A0-4D3D-BF3C-B87C0362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8AC-48A7-4E6D-8EF1-41DB68ED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F9D-C85E-4147-9493-B9EB1BB5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F3D-C738-4596-9259-AFE44732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9B2-6087-4EF1-A982-E9C6052A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D53-C37F-4D51-8222-BACCEEFE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957-3A0B-42C5-BC16-7DE4536E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BAF-055C-4094-A185-3E6F591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28D-507A-4BD5-A68C-E52CC38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DEA-187E-4AC3-88B4-5207245D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B1FC-AE49-42EA-B6C7-97F0F60E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RestrictedPermissionViewer?clid=1043" TargetMode="External"/><Relationship Id="rId3" Type="http://schemas.openxmlformats.org/officeDocument/2006/relationships/hyperlink" Target="http://r.office.microsoft.com/r/rlidRestrictedPermissionViewer?clid=1043" TargetMode="External"/><Relationship Id="rId4" Type="http://schemas.openxmlformats.org/officeDocument/2006/relationships/hyperlink" Target="http://r.office.microsoft.com/r/rlidRestrictedPermissionViewer?clid=1043" TargetMode="External"/><Relationship Id="rId5" Type="http://schemas.openxmlformats.org/officeDocument/2006/relationships/hyperlink" Target="http://r.office.microsoft.com/r/rlidRestrictedPermissionViewer?clid=1043" TargetMode="External"/><Relationship Id="rId6" Type="http://schemas.openxmlformats.org/officeDocument/2006/relationships/hyperlink" Target="http://r.office.microsoft.com/r/rlidRestrictedPermissionViewer?clid=1043" TargetMode="External"/><Relationship Id="rId7" Type="http://schemas.openxmlformats.org/officeDocument/2006/relationships/hyperlink" Target="http://r.office.microsoft.com/r/rlidRestrictedPermissionViewer?clid=1043" TargetMode="External"/><Relationship Id="rId8" Type="http://schemas.openxmlformats.org/officeDocument/2006/relationships/hyperlink" Target="http://r.office.microsoft.com/r/rlidDRMMoreInfoLicenseReq?clid=1043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97180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De toegang tot deze presentatie is momenteel beperkt. Als u geen gebruikmaakt van Microsoft Office 2003 of een toepassing die presentaties met beperkte toegang ondersteunt, kunt u deze presentatie lezen door de invoegtoepassing Rights Management voor Internet Explorer te downloaden. Als u de onderstaande koppeling wilt volgen, klikt u op Diavoorstelling in het menu Be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8288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D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invoegtoepassing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 Rights Managemen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voor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 Internet Explore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downloa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5146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Meer informatie over documenten met beperkte toe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7-15T12:46:18Z</dcterms:modified>
  <cp:revision>83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