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6BD0-C672-4962-AF8C-48C99E39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B440-6740-4A49-B4FD-70112645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D95D-7901-442D-A6F8-11DC336D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46AD-B9EF-4DBE-B2D2-A4B2237E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4775-0B84-4FFF-A5E2-910986D0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4D83-4200-463F-A369-9C53678F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208D-F689-41D2-BEE3-495C28EF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9F57-C6CD-43E5-B2FF-9BD2998D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2079-4314-4E21-9CB9-90897475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CCE9-5A0A-4EB6-993A-85D7FD15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31E0-E220-4451-9ADA-1F367E09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901B-745F-4270-99EF-167A2B6C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4C0B-FB26-4C32-A1ED-7DA4133B6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.office.microsoft.com/r/rlidDRMMoreInfoLicenseReq?clid=1043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2210040"/>
          </a:xfrm>
          <a:prstGeom prst="rect">
            <a:avLst/>
          </a:prstGeom>
          <a:solidFill>
            <a:srgbClr val="faf8ed"/>
          </a:solidFill>
          <a:ln w="3240">
            <a:solidFill>
              <a:srgbClr val="c0c0c0"/>
            </a:solidFill>
            <a:miter/>
          </a:ln>
        </p:spPr>
        <p:txBody>
          <a:bodyPr lIns="54864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De toegang tot deze presentatie is momenteel beperkt. U kunt deze presentatie alleen openen met Microsoft Office 2003 of hoger. U kunt de auteur van de presentatie vragen om een kopie ter beschikking te stellen die kan worden gelezen met de invoegtoepassing Rights Management voor Internet Explorer. Als u de onderstaande koppeling wilt volgen, klikt u op Diavoorstelling in het menu Beel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doNotEnter" descr=""/>
          <p:cNvPicPr/>
          <p:nvPr/>
        </p:nvPicPr>
        <p:blipFill>
          <a:blip r:embed="rId1"/>
          <a:stretch/>
        </p:blipFill>
        <p:spPr>
          <a:xfrm>
            <a:off x="314280" y="31428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1752480"/>
            <a:ext cx="693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Meer informatie over documenten met beperkte toeg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8:12:01Z</dcterms:created>
  <dc:creator/>
  <dc:description/>
  <dc:language>en-US</dc:language>
  <cp:lastModifiedBy/>
  <dcterms:modified xsi:type="dcterms:W3CDTF">2003-07-15T12:46:19Z</dcterms:modified>
  <cp:revision>81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