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F35-6907-446A-8AA1-D54127EA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2C5-7417-43CB-B827-AF5E8CA2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619-1056-4885-BE61-E49C4BBF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ECE-0F6E-4A3F-9438-EA01842B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2A8-CF80-4606-9108-4FD87CC7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A2A-92BB-4013-8009-D4373453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D90-5C74-4E30-9F78-47FF747E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FF1-A0C3-44E0-BF0D-CB1FE1EF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74E-58F7-433C-ACA8-DDB509AF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301-6539-4F8E-B431-BCA2958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072-781A-41AA-87E3-3E2E486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5F7-C590-4C68-860F-F432A06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38FC-F26A-4BE6-AA39-E72398A3E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RestrictedPermissionViewer?clid=1043" TargetMode="External"/><Relationship Id="rId3" Type="http://schemas.openxmlformats.org/officeDocument/2006/relationships/hyperlink" Target="http://r.office.microsoft.com/r/rlidRestrictedPermissionViewer?clid=1043" TargetMode="External"/><Relationship Id="rId4" Type="http://schemas.openxmlformats.org/officeDocument/2006/relationships/hyperlink" Target="http://r.office.microsoft.com/r/rlidRestrictedPermissionViewer?clid=1043" TargetMode="External"/><Relationship Id="rId5" Type="http://schemas.openxmlformats.org/officeDocument/2006/relationships/hyperlink" Target="http://r.office.microsoft.com/r/rlidRestrictedPermissionViewer?clid=1043" TargetMode="External"/><Relationship Id="rId6" Type="http://schemas.openxmlformats.org/officeDocument/2006/relationships/hyperlink" Target="http://r.office.microsoft.com/r/rlidRestrictedPermissionViewer?clid=1043" TargetMode="External"/><Relationship Id="rId7" Type="http://schemas.openxmlformats.org/officeDocument/2006/relationships/hyperlink" Target="http://r.office.microsoft.com/r/rlidRestrictedPermissionViewer?clid=1043" TargetMode="External"/><Relationship Id="rId8" Type="http://schemas.openxmlformats.org/officeDocument/2006/relationships/hyperlink" Target="http://r.office.microsoft.com/r/rlidDRMMoreInfoLicenseReq?clid=1043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97180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De toegang tot deze presentatie is momenteel beperkt. Als u geen gebruikmaakt van Microsoft Office 2003 of een toepassing die presentaties met beperkte toegang ondersteunt, kunt u deze presentatie lezen door de invoegtoepassing Rights Management voor Internet Explorer te downloaden. Als u de onderstaande koppeling wilt volgen, klikt u op Diavoorstelling in het menu Be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8288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D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invoegtoepassing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 Rights Managemen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voor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 Internet Explorer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downloa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5146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Meer informatie over documenten met beperkte toe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7-15T12:46:18Z</dcterms:modified>
  <cp:revision>83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