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3F71-FE8B-4976-8821-0A460CB28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5F8A-531B-45BD-B6E7-028462B77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0F3C-1FEF-452D-82C4-3886481BA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951F-07DC-4FA5-8753-464ACFD27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8662-CE0A-497D-836A-7406BAE90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ECCB-3D25-4C65-A4B6-E6A73A40B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6B8E-0B34-4C10-B943-0E5D69F53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C418-A889-4BCB-B6E3-781F7232F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873F-7B06-4A0E-B8E3-BCF1DA736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7249-DB31-430F-A390-11AC0D3A3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C3BA-73A4-4C6F-915C-EC68D1F46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205F-E2B0-4A7C-9E0E-6DCF8DDFB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949EB-8FFC-4F94-A328-5AE4F3F6F9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r.office.microsoft.com/r/rlidDRMMoreInfoLicenseReq?clid=1043" TargetMode="External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467840" cy="2210040"/>
          </a:xfrm>
          <a:prstGeom prst="rect">
            <a:avLst/>
          </a:prstGeom>
          <a:solidFill>
            <a:srgbClr val="faf8ed"/>
          </a:solidFill>
          <a:ln w="3240">
            <a:solidFill>
              <a:srgbClr val="c0c0c0"/>
            </a:solidFill>
            <a:miter/>
          </a:ln>
        </p:spPr>
        <p:txBody>
          <a:bodyPr lIns="54864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De toegang tot deze presentatie is momenteel beperkt. U kunt deze presentatie alleen openen met Microsoft Office 2003 of hoger. U kunt de auteur van de presentatie vragen om een kopie ter beschikking te stellen die kan worden gelezen met de invoegtoepassing Rights Management voor Internet Explorer. Als u de onderstaande koppeling wilt volgen, klikt u op Diavoorstelling in het menu Beel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doNotEnter" descr=""/>
          <p:cNvPicPr/>
          <p:nvPr/>
        </p:nvPicPr>
        <p:blipFill>
          <a:blip r:embed="rId1"/>
          <a:stretch/>
        </p:blipFill>
        <p:spPr>
          <a:xfrm>
            <a:off x="314280" y="314280"/>
            <a:ext cx="295200" cy="2952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09480" y="1752480"/>
            <a:ext cx="693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Meer informatie over documenten met beperkte toega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1T18:12:01Z</dcterms:created>
  <dc:creator/>
  <dc:description/>
  <dc:language>en-US</dc:language>
  <cp:lastModifiedBy/>
  <dcterms:modified xsi:type="dcterms:W3CDTF">2003-07-15T12:46:19Z</dcterms:modified>
  <cp:revision>81</cp:revision>
  <dc:subject/>
  <dc:title>Permission to this presentation is  currently restricted. This presentation can  be opened by Microsoft Office 11 Beta  or a viewer. For more information,  go to http://office.microsoft.com/viewer.</dc:title>
</cp:coreProperties>
</file>